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" name=""/>
          <p:cNvGraphicFramePr/>
          <p:nvPr/>
        </p:nvGraphicFramePr>
        <p:xfrm>
          <a:off x="98280" y="836640"/>
          <a:ext cx="8955360" cy="5761080"/>
        </p:xfrm>
        <a:graphic>
          <a:graphicData uri="http://schemas.openxmlformats.org/drawingml/2006/table">
            <a:tbl>
              <a:tblPr/>
              <a:tblGrid>
                <a:gridCol w="671760"/>
                <a:gridCol w="825480"/>
                <a:gridCol w="666720"/>
                <a:gridCol w="664920"/>
                <a:gridCol w="667080"/>
                <a:gridCol w="664920"/>
                <a:gridCol w="666720"/>
                <a:gridCol w="666720"/>
                <a:gridCol w="665280"/>
                <a:gridCol w="666720"/>
                <a:gridCol w="665280"/>
                <a:gridCol w="666720"/>
                <a:gridCol w="797040"/>
              </a:tblGrid>
              <a:tr h="463680"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     </a:t>
                      </a:r>
                      <a:r>
                        <a:rPr b="1" lang="zh-CN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월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 </a:t>
                      </a:r>
                      <a:r>
                        <a:rPr b="1" lang="zh-CN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내용 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   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3</a:t>
                      </a:r>
                      <a:r>
                        <a:rPr b="1" lang="zh-CN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월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   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4</a:t>
                      </a:r>
                      <a:r>
                        <a:rPr b="1" lang="zh-CN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월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    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5</a:t>
                      </a:r>
                      <a:r>
                        <a:rPr b="1" lang="zh-CN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월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    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6</a:t>
                      </a:r>
                      <a:r>
                        <a:rPr b="1" lang="zh-CN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월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    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7</a:t>
                      </a:r>
                      <a:r>
                        <a:rPr b="1" lang="zh-CN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월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    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8</a:t>
                      </a:r>
                      <a:r>
                        <a:rPr b="1" lang="zh-CN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월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    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9</a:t>
                      </a:r>
                      <a:r>
                        <a:rPr b="1" lang="zh-CN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월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   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10</a:t>
                      </a:r>
                      <a:r>
                        <a:rPr b="1" lang="zh-CN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월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   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11</a:t>
                      </a:r>
                      <a:r>
                        <a:rPr b="1" lang="zh-CN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월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    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12</a:t>
                      </a:r>
                      <a:r>
                        <a:rPr b="1" lang="zh-CN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월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    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1</a:t>
                      </a:r>
                      <a:r>
                        <a:rPr b="1" lang="zh-CN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월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 </a:t>
                      </a:r>
                      <a:r>
                        <a:rPr b="1" lang="zh-CN" sz="900" spc="-1" strike="noStrike">
                          <a:solidFill>
                            <a:srgbClr val="0000ff"/>
                          </a:solidFill>
                          <a:latin typeface="바탕"/>
                          <a:ea typeface="바탕"/>
                        </a:rPr>
                        <a:t>합   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63320"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생 활 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500,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500,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500,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500,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500,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500,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500,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500,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500,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500,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500,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 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5,500,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998640"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집    값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250+250+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125X400=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250,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20800"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학 원 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600,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(30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일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600,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(11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일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600,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 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(22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일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1,000,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(3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일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1,000,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 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(14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일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1,000,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(26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일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1,000,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(7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일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 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5,800,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90320"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컨퍼런스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500,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  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500,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63680"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운전면허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400,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  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400,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69800"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휴    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600,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  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600,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39920"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ff"/>
                          </a:solidFill>
                          <a:latin typeface="바탕"/>
                          <a:ea typeface="바탕"/>
                        </a:rPr>
                        <a:t>  </a:t>
                      </a:r>
                      <a:r>
                        <a:rPr b="1" lang="zh-CN" sz="900" spc="-1" strike="noStrike">
                          <a:solidFill>
                            <a:srgbClr val="0000ff"/>
                          </a:solidFill>
                          <a:latin typeface="바탕"/>
                          <a:ea typeface="바탕"/>
                        </a:rPr>
                        <a:t>합    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33"/>
                    </a:soli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33"/>
                    </a:soli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33"/>
                    </a:soli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33"/>
                    </a:soli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33"/>
                    </a:soli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33"/>
                    </a:soli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33"/>
                    </a:soli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33"/>
                    </a:soli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33"/>
                    </a:soli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33"/>
                    </a:soli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33"/>
                    </a:solidFill>
                  </a:tcPr>
                </a:tc>
                <a:tc>
                  <a:txBody>
                    <a:bodyPr lIns="18000" rIns="18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33"/>
                    </a:solidFill>
                  </a:tcPr>
                </a:tc>
              </a:tr>
              <a:tr h="1150920">
                <a:tc gridSpan="13">
                  <a:txBody>
                    <a:bodyPr lIns="18000" rIns="18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          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* </a:t>
                      </a:r>
                      <a:r>
                        <a:rPr b="1" lang="zh-CN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생활비에 집값 포함 되는지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?                         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 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* </a:t>
                      </a:r>
                      <a:r>
                        <a:rPr b="1" lang="zh-CN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매달 수입내역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: </a:t>
                      </a:r>
                      <a:r>
                        <a:rPr b="1" lang="zh-CN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동부상사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250,000 +</a:t>
                      </a:r>
                      <a:r>
                        <a:rPr b="1" lang="zh-CN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동료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130,000 = 380,000 x 12</a:t>
                      </a:r>
                      <a:r>
                        <a:rPr b="1" lang="zh-CN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개월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= </a:t>
                      </a:r>
                      <a:r>
                        <a:rPr b="1" lang="zh-CN" sz="900" spc="-1" strike="noStrike" u="sng">
                          <a:solidFill>
                            <a:srgbClr val="000000"/>
                          </a:solidFill>
                          <a:uFillTx/>
                          <a:latin typeface="바탕"/>
                          <a:ea typeface="바탕"/>
                        </a:rPr>
                        <a:t>총수입 </a:t>
                      </a:r>
                      <a:r>
                        <a:rPr b="1" lang="en-US" sz="900" spc="-1" strike="noStrike" u="sng">
                          <a:solidFill>
                            <a:srgbClr val="000000"/>
                          </a:solidFill>
                          <a:uFillTx/>
                          <a:latin typeface="바탕"/>
                          <a:ea typeface="바탕"/>
                        </a:rPr>
                        <a:t>4,560,000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    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 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* </a:t>
                      </a:r>
                      <a:r>
                        <a:rPr b="1" lang="zh-CN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나머지 총 부족분은 집에서 준비한다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.         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  <a:ea typeface="바탕"/>
                        </a:rPr>
                        <a:t>             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8" name=""/>
          <p:cNvSpPr/>
          <p:nvPr/>
        </p:nvSpPr>
        <p:spPr>
          <a:xfrm>
            <a:off x="0" y="332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바탕"/>
                <a:ea typeface="바탕"/>
              </a:rPr>
              <a:t>  </a:t>
            </a:r>
            <a:r>
              <a:rPr b="1" lang="zh-CN" sz="2000" spc="-1" strike="noStrike">
                <a:solidFill>
                  <a:srgbClr val="000000"/>
                </a:solidFill>
                <a:latin typeface="바탕"/>
                <a:ea typeface="HY목각파임B"/>
              </a:rPr>
              <a:t>예산편성표</a:t>
            </a:r>
            <a:r>
              <a:rPr b="1" lang="en-US" sz="2000" spc="-1" strike="noStrike">
                <a:solidFill>
                  <a:srgbClr val="000000"/>
                </a:solidFill>
                <a:latin typeface="바탕"/>
                <a:ea typeface="HY목각파임B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바탕"/>
                <a:ea typeface="HY목각파임B"/>
              </a:rPr>
              <a:t>안</a:t>
            </a:r>
            <a:r>
              <a:rPr b="1" lang="en-US" sz="2000" spc="-1" strike="noStrike">
                <a:solidFill>
                  <a:srgbClr val="000000"/>
                </a:solidFill>
                <a:latin typeface="바탕"/>
                <a:ea typeface="HY목각파임B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04:07:15Z</dcterms:created>
  <dc:creator>생산팀-임무택</dc:creator>
  <dc:description/>
  <dc:language>en-US</dc:language>
  <cp:lastModifiedBy>생산팀-임무택</cp:lastModifiedBy>
  <dcterms:modified xsi:type="dcterms:W3CDTF">2009-03-10T04:09:20Z</dcterms:modified>
  <cp:revision>1</cp:revision>
  <dc:subject/>
  <dc:title>슬라이드 1</dc:title>
</cp:coreProperties>
</file>